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Vivaldi"/>
              </a:rPr>
              <a:t>Click to move the slid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AC4-1571-48D2-A9EC-7A491E1A56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294F-07AB-4AC6-8EC4-89EEB04F3E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CA4-F11B-45C0-9520-D1EF499AE2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A99B-C123-4DF5-AE61-99C50B1670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52E-A638-42D0-94CB-7FBCF8E867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E200-A1A0-49E8-B8A9-A2C6B9C918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BC93-4EA8-4A01-8D56-9D62AE9FE7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4AC-D21B-453D-8E4F-D2450E0F51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E4B4-BFDE-4198-AABE-3B034F004F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7AE-C435-443A-A469-A9084E37E3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54A7-C836-4121-B104-28A1F18C19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919-7A63-4174-830A-798A0883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461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739-EF96-4097-98B6-14A553BF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7FA-0C6E-47A6-906E-07530EF0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3EE-5C29-4E59-B511-8AE50FD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CB2-4C70-434E-AECE-2445604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F45-447A-4578-A2FC-268CF8F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7DE-E699-45D7-89C5-A619D39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0B2-CD1E-47FB-8A38-D9A7C9D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1B9-0BF4-4631-B100-3852EDD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8A2-CA55-48F4-883B-B488B37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35D-60B7-469B-B9CD-AD88E5EE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5C2-8008-42EE-9D92-48A955FB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569-F443-4435-BA7D-CD35273EAA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21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Gesamtschule Ludwigsfe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Fach: Mathematik    </a:t>
            </a: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	</a:t>
            </a: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Designed by  S. Antol und Th. K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327636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i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büsch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ist eine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Menge von Strahlen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ie eine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gemeinsamen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nfangspunkt S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haben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5095800" y="2909880"/>
            <a:ext cx="358920" cy="541080"/>
            <a:chOff x="5095800" y="2909880"/>
            <a:chExt cx="358920" cy="541080"/>
          </a:xfrm>
        </p:grpSpPr>
        <p:sp>
          <p:nvSpPr>
            <p:cNvPr id="54" name="Text Box 11"/>
            <p:cNvSpPr/>
            <p:nvPr/>
          </p:nvSpPr>
          <p:spPr>
            <a:xfrm>
              <a:off x="5095800" y="2909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5050"/>
                  </a:solidFill>
                  <a:latin typeface="Garamond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 flipV="1">
              <a:off x="5140800" y="3256200"/>
              <a:ext cx="234000" cy="1947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AutoShape 14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6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60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1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1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zweite Strahlensatz (II)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52070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A  :  SB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C  :  S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Parallelenabschnitte zueinander wie die zugehörigen Strahlenabschnitte auf ein und demselb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Zugehörig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39640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853240" y="529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615360" y="347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806364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85964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7224120" y="5985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5410080" y="3429000"/>
            <a:ext cx="1371600" cy="4572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5410080" y="3429000"/>
            <a:ext cx="274320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"/>
          <p:cNvSpPr/>
          <p:nvPr/>
        </p:nvSpPr>
        <p:spPr>
          <a:xfrm flipV="1">
            <a:off x="5867280" y="3903840"/>
            <a:ext cx="914400" cy="5918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 flipV="1">
            <a:off x="6248520" y="4419720"/>
            <a:ext cx="1904760" cy="121896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714852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90960" y="3365640"/>
            <a:ext cx="32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B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  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 SD</a:t>
            </a: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3048120" y="283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8"/>
          <p:cNvSpPr/>
          <p:nvPr/>
        </p:nvSpPr>
        <p:spPr>
          <a:xfrm>
            <a:off x="2311560" y="283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1384200" y="283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0"/>
          <p:cNvSpPr/>
          <p:nvPr/>
        </p:nvSpPr>
        <p:spPr>
          <a:xfrm>
            <a:off x="66024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6602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2"/>
          <p:cNvSpPr/>
          <p:nvPr/>
        </p:nvSpPr>
        <p:spPr>
          <a:xfrm>
            <a:off x="1384200" y="344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3"/>
          <p:cNvSpPr/>
          <p:nvPr/>
        </p:nvSpPr>
        <p:spPr>
          <a:xfrm>
            <a:off x="2311560" y="344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4"/>
          <p:cNvSpPr/>
          <p:nvPr/>
        </p:nvSpPr>
        <p:spPr>
          <a:xfrm>
            <a:off x="3073320" y="344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36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chneiden nu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arallele Geraden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und</a:t>
            </a:r>
            <a:r>
              <a:rPr b="0" lang="de-DE" sz="24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dieses Büschel, so entstehe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abschnitte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un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arallelenabschni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5003640" y="3213000"/>
            <a:ext cx="2895480" cy="2590920"/>
            <a:chOff x="5003640" y="3213000"/>
            <a:chExt cx="2895480" cy="2590920"/>
          </a:xfrm>
        </p:grpSpPr>
        <p:sp>
          <p:nvSpPr>
            <p:cNvPr id="63" name="Line 8"/>
            <p:cNvSpPr/>
            <p:nvPr/>
          </p:nvSpPr>
          <p:spPr>
            <a:xfrm flipV="1">
              <a:off x="5003640" y="3213000"/>
              <a:ext cx="1752480" cy="13716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V="1">
              <a:off x="5003640" y="3517920"/>
              <a:ext cx="2895480" cy="22860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536160" y="2722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664760" y="31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5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8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3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8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3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8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3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8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3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8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3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8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3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5"/>
          <p:cNvSpPr/>
          <p:nvPr/>
        </p:nvSpPr>
        <p:spPr>
          <a:xfrm flipV="1">
            <a:off x="5029200" y="32004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 flipV="1">
            <a:off x="5029200" y="3505320"/>
            <a:ext cx="2895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3"/>
          <p:cNvSpPr/>
          <p:nvPr/>
        </p:nvSpPr>
        <p:spPr>
          <a:xfrm>
            <a:off x="5257800" y="3352680"/>
            <a:ext cx="0" cy="10670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4"/>
          <p:cNvSpPr/>
          <p:nvPr/>
        </p:nvSpPr>
        <p:spPr>
          <a:xfrm>
            <a:off x="5257800" y="3352680"/>
            <a:ext cx="2286000" cy="45720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5"/>
          <p:cNvSpPr/>
          <p:nvPr/>
        </p:nvSpPr>
        <p:spPr>
          <a:xfrm>
            <a:off x="5867280" y="3886200"/>
            <a:ext cx="762120" cy="6858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6525000" y="27226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7662960" y="31035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3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0"/>
          <p:cNvSpPr/>
          <p:nvPr/>
        </p:nvSpPr>
        <p:spPr>
          <a:xfrm>
            <a:off x="397080" y="3205080"/>
            <a:ext cx="38322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abschnitte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, SC, SE, a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, SD, SF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B, CD, 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0"/>
          <p:cNvSpPr/>
          <p:nvPr/>
        </p:nvSpPr>
        <p:spPr>
          <a:xfrm>
            <a:off x="702360" y="36781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1"/>
          <p:cNvSpPr/>
          <p:nvPr/>
        </p:nvSpPr>
        <p:spPr>
          <a:xfrm>
            <a:off x="1252800" y="47102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2"/>
          <p:cNvSpPr/>
          <p:nvPr/>
        </p:nvSpPr>
        <p:spPr>
          <a:xfrm>
            <a:off x="1729440" y="419112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3"/>
          <p:cNvSpPr/>
          <p:nvPr/>
        </p:nvSpPr>
        <p:spPr>
          <a:xfrm>
            <a:off x="8380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4"/>
          <p:cNvSpPr/>
          <p:nvPr/>
        </p:nvSpPr>
        <p:spPr>
          <a:xfrm>
            <a:off x="13716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5"/>
          <p:cNvSpPr/>
          <p:nvPr/>
        </p:nvSpPr>
        <p:spPr>
          <a:xfrm>
            <a:off x="18288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6"/>
          <p:cNvSpPr/>
          <p:nvPr/>
        </p:nvSpPr>
        <p:spPr>
          <a:xfrm>
            <a:off x="838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7"/>
          <p:cNvSpPr/>
          <p:nvPr/>
        </p:nvSpPr>
        <p:spPr>
          <a:xfrm>
            <a:off x="1371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8"/>
          <p:cNvSpPr/>
          <p:nvPr/>
        </p:nvSpPr>
        <p:spPr>
          <a:xfrm>
            <a:off x="1905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9"/>
          <p:cNvSpPr/>
          <p:nvPr/>
        </p:nvSpPr>
        <p:spPr>
          <a:xfrm>
            <a:off x="1447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5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250"/>
                            </p:stCondLst>
                            <p:childTnLst>
                              <p:par>
                                <p:cTn id="1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7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5029200" y="32004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5029200" y="3505320"/>
            <a:ext cx="2895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7621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208296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7621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0574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139716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5"/>
          <p:cNvSpPr/>
          <p:nvPr/>
        </p:nvSpPr>
        <p:spPr>
          <a:xfrm flipV="1">
            <a:off x="5257800" y="3886200"/>
            <a:ext cx="609480" cy="47304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6"/>
          <p:cNvSpPr/>
          <p:nvPr/>
        </p:nvSpPr>
        <p:spPr>
          <a:xfrm flipV="1">
            <a:off x="5257800" y="3789360"/>
            <a:ext cx="2286000" cy="1789200"/>
          </a:xfrm>
          <a:prstGeom prst="line">
            <a:avLst/>
          </a:prstGeom>
          <a:ln w="763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6525000" y="27226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7662960" y="31035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2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4"/>
          <p:cNvSpPr/>
          <p:nvPr/>
        </p:nvSpPr>
        <p:spPr>
          <a:xfrm flipV="1">
            <a:off x="5867280" y="3530520"/>
            <a:ext cx="457200" cy="355680"/>
          </a:xfrm>
          <a:prstGeom prst="line">
            <a:avLst/>
          </a:prstGeom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95120" y="3454560"/>
            <a:ext cx="4742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Parallelenabschnitte</a:t>
            </a: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s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AC, CE, AE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BD, DF, 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09480" y="428004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5050"/>
                </a:solidFill>
                <a:latin typeface="Garamond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254960" y="427032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0"/>
          <p:cNvSpPr/>
          <p:nvPr/>
        </p:nvSpPr>
        <p:spPr>
          <a:xfrm>
            <a:off x="1897200" y="49640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da2bf"/>
                </a:solidFill>
                <a:latin typeface="Garamond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3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4">
            <a:hlinkClick r:id="" action="ppaction://hlinkshowjump?jump=nextslide"/>
          </p:cNvPr>
          <p:cNvSpPr/>
          <p:nvPr/>
        </p:nvSpPr>
        <p:spPr>
          <a:xfrm>
            <a:off x="2895480" y="5727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25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75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2666880"/>
            <a:ext cx="4679640" cy="3283200"/>
          </a:xfrm>
          <a:prstGeom prst="rect">
            <a:avLst/>
          </a:prstGeom>
          <a:noFill/>
          <a:ln w="9360">
            <a:solidFill>
              <a:srgbClr val="da1f28"/>
            </a:solidFill>
            <a:miter/>
          </a:ln>
        </p:spPr>
        <p:txBody>
          <a:bodyPr anchor="t">
            <a:normAutofit fontScale="91000"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Mit den Eigenschaften zentrischer Streckungen erhält man folgende Verhältnisgleich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Garamond"/>
              </a:rPr>
              <a:t>	</a:t>
            </a:r>
            <a:r>
              <a:rPr b="0" lang="de-DE" sz="2800" spc="-1" strike="noStrike" u="sng">
                <a:solidFill>
                  <a:srgbClr val="ff8119"/>
                </a:solidFill>
                <a:uFillTx/>
                <a:latin typeface="Garamond"/>
                <a:hlinkClick r:id="rId1" action="ppaction://hlinksldjump"/>
              </a:rPr>
              <a:t>1. Strahlen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5050"/>
                </a:solidFill>
                <a:latin typeface="Garamond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2. Strahlen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3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5"/>
          <p:cNvSpPr/>
          <p:nvPr/>
        </p:nvSpPr>
        <p:spPr>
          <a:xfrm>
            <a:off x="538488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6"/>
          <p:cNvSpPr/>
          <p:nvPr/>
        </p:nvSpPr>
        <p:spPr>
          <a:xfrm flipV="1">
            <a:off x="5867280" y="3885840"/>
            <a:ext cx="914400" cy="6094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7"/>
          <p:cNvSpPr/>
          <p:nvPr/>
        </p:nvSpPr>
        <p:spPr>
          <a:xfrm>
            <a:off x="5397480" y="3467160"/>
            <a:ext cx="1371600" cy="4572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8"/>
          <p:cNvSpPr/>
          <p:nvPr/>
        </p:nvSpPr>
        <p:spPr>
          <a:xfrm flipV="1">
            <a:off x="6248520" y="4382640"/>
            <a:ext cx="1981080" cy="128916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9"/>
          <p:cNvSpPr/>
          <p:nvPr/>
        </p:nvSpPr>
        <p:spPr>
          <a:xfrm>
            <a:off x="5410080" y="3429000"/>
            <a:ext cx="281952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3">
            <a:hlinkClick r:id="" action="ppaction://hlinkshowjump?jump=previousslide"/>
          </p:cNvPr>
          <p:cNvSpPr/>
          <p:nvPr/>
        </p:nvSpPr>
        <p:spPr>
          <a:xfrm>
            <a:off x="838080" y="6076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4">
            <a:hlinkClick r:id="" action="ppaction://hlinkshowjump?jump=nextslide"/>
          </p:cNvPr>
          <p:cNvSpPr/>
          <p:nvPr/>
        </p:nvSpPr>
        <p:spPr>
          <a:xfrm>
            <a:off x="2895480" y="6076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07672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 =  SC  :  S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2da2b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410080" y="3429000"/>
            <a:ext cx="45720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541008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410080" y="3429000"/>
            <a:ext cx="1371600" cy="53352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5410080" y="3429000"/>
            <a:ext cx="281952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16000" y="27050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B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1143000" y="275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406440" y="2793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278136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2044800" y="2768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6"/>
          <p:cNvSpPr/>
          <p:nvPr/>
        </p:nvSpPr>
        <p:spPr>
          <a:xfrm>
            <a:off x="38088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7"/>
          <p:cNvSpPr/>
          <p:nvPr/>
        </p:nvSpPr>
        <p:spPr>
          <a:xfrm>
            <a:off x="114300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201924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75580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393840" y="3898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113040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201924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279396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4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5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514836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=  SC  :  S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</a:t>
            </a: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821200" y="4495680"/>
            <a:ext cx="457200" cy="11430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410080" y="3429000"/>
            <a:ext cx="1447920" cy="48276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6800760" y="3892680"/>
            <a:ext cx="1447920" cy="4824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2"/>
          <p:cNvSpPr/>
          <p:nvPr/>
        </p:nvSpPr>
        <p:spPr>
          <a:xfrm>
            <a:off x="190440" y="32004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AB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r>
              <a:rPr b="0" lang="de-DE" sz="2400" spc="-1" strike="noStrike">
                <a:solidFill>
                  <a:srgbClr val="da1f2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3"/>
          <p:cNvSpPr/>
          <p:nvPr/>
        </p:nvSpPr>
        <p:spPr>
          <a:xfrm>
            <a:off x="111744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4064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5"/>
          <p:cNvSpPr/>
          <p:nvPr/>
        </p:nvSpPr>
        <p:spPr>
          <a:xfrm>
            <a:off x="26924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6"/>
          <p:cNvSpPr/>
          <p:nvPr/>
        </p:nvSpPr>
        <p:spPr>
          <a:xfrm>
            <a:off x="198108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7"/>
          <p:cNvSpPr/>
          <p:nvPr/>
        </p:nvSpPr>
        <p:spPr>
          <a:xfrm>
            <a:off x="3808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8"/>
          <p:cNvSpPr/>
          <p:nvPr/>
        </p:nvSpPr>
        <p:spPr>
          <a:xfrm>
            <a:off x="114300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201924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0"/>
          <p:cNvSpPr/>
          <p:nvPr/>
        </p:nvSpPr>
        <p:spPr>
          <a:xfrm>
            <a:off x="275580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1"/>
          <p:cNvSpPr/>
          <p:nvPr/>
        </p:nvSpPr>
        <p:spPr>
          <a:xfrm>
            <a:off x="39384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2"/>
          <p:cNvSpPr/>
          <p:nvPr/>
        </p:nvSpPr>
        <p:spPr>
          <a:xfrm>
            <a:off x="1130400" y="387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20192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4"/>
          <p:cNvSpPr/>
          <p:nvPr/>
        </p:nvSpPr>
        <p:spPr>
          <a:xfrm>
            <a:off x="279396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5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6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I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07672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=  SC  :  S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85964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5410080" y="3429000"/>
            <a:ext cx="82260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5410080" y="3429000"/>
            <a:ext cx="2819520" cy="88884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5821200" y="4495680"/>
            <a:ext cx="457200" cy="11430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6800760" y="3892680"/>
            <a:ext cx="1447920" cy="4824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185760" y="370368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B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AB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r>
              <a:rPr b="0" lang="de-DE" sz="2400" spc="-1" strike="noStrike">
                <a:solidFill>
                  <a:srgbClr val="da1f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2"/>
          <p:cNvSpPr/>
          <p:nvPr/>
        </p:nvSpPr>
        <p:spPr>
          <a:xfrm>
            <a:off x="111744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3"/>
          <p:cNvSpPr/>
          <p:nvPr/>
        </p:nvSpPr>
        <p:spPr>
          <a:xfrm>
            <a:off x="393840" y="2781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4"/>
          <p:cNvSpPr/>
          <p:nvPr/>
        </p:nvSpPr>
        <p:spPr>
          <a:xfrm>
            <a:off x="27050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5"/>
          <p:cNvSpPr/>
          <p:nvPr/>
        </p:nvSpPr>
        <p:spPr>
          <a:xfrm>
            <a:off x="198108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6"/>
          <p:cNvSpPr/>
          <p:nvPr/>
        </p:nvSpPr>
        <p:spPr>
          <a:xfrm>
            <a:off x="39384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7"/>
          <p:cNvSpPr/>
          <p:nvPr/>
        </p:nvSpPr>
        <p:spPr>
          <a:xfrm>
            <a:off x="1130400" y="3263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8"/>
          <p:cNvSpPr/>
          <p:nvPr/>
        </p:nvSpPr>
        <p:spPr>
          <a:xfrm>
            <a:off x="20318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9"/>
          <p:cNvSpPr/>
          <p:nvPr/>
        </p:nvSpPr>
        <p:spPr>
          <a:xfrm>
            <a:off x="276876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0"/>
          <p:cNvSpPr/>
          <p:nvPr/>
        </p:nvSpPr>
        <p:spPr>
          <a:xfrm>
            <a:off x="41904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1"/>
          <p:cNvSpPr/>
          <p:nvPr/>
        </p:nvSpPr>
        <p:spPr>
          <a:xfrm>
            <a:off x="1155600" y="379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2"/>
          <p:cNvSpPr/>
          <p:nvPr/>
        </p:nvSpPr>
        <p:spPr>
          <a:xfrm>
            <a:off x="204480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3"/>
          <p:cNvSpPr/>
          <p:nvPr/>
        </p:nvSpPr>
        <p:spPr>
          <a:xfrm>
            <a:off x="28195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5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8">
            <a:hlinkClick r:id="" action="ppaction://hlinkshowjump?jump=nextslide"/>
          </p:cNvPr>
          <p:cNvSpPr/>
          <p:nvPr/>
        </p:nvSpPr>
        <p:spPr>
          <a:xfrm>
            <a:off x="2411280" y="6199200"/>
            <a:ext cx="1944720" cy="322200"/>
          </a:xfrm>
          <a:custGeom>
            <a:avLst/>
            <a:gdLst>
              <a:gd name="textAreaLeft" fmla="*/ 20880 w 1944720"/>
              <a:gd name="textAreaRight" fmla="*/ 1923840 w 1944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130251" h="21600">
                <a:moveTo>
                  <a:pt x="0" y="0"/>
                </a:moveTo>
                <a:lnTo>
                  <a:pt x="130251" y="0"/>
                </a:lnTo>
                <a:lnTo>
                  <a:pt x="130251" y="21600"/>
                </a:lnTo>
                <a:lnTo>
                  <a:pt x="0" y="21600"/>
                </a:lnTo>
                <a:close/>
              </a:path>
              <a:path fill="lightenLess" w="130251" h="21600">
                <a:moveTo>
                  <a:pt x="0" y="0"/>
                </a:moveTo>
                <a:lnTo>
                  <a:pt x="130251" y="0"/>
                </a:lnTo>
                <a:lnTo>
                  <a:pt x="128851" y="1400"/>
                </a:lnTo>
                <a:lnTo>
                  <a:pt x="1400" y="1400"/>
                </a:lnTo>
                <a:close/>
              </a:path>
              <a:path fill="darken" w="130251" h="21600">
                <a:moveTo>
                  <a:pt x="130251" y="0"/>
                </a:moveTo>
                <a:lnTo>
                  <a:pt x="130251" y="21600"/>
                </a:lnTo>
                <a:lnTo>
                  <a:pt x="128851" y="20200"/>
                </a:lnTo>
                <a:lnTo>
                  <a:pt x="128851" y="1400"/>
                </a:lnTo>
                <a:close/>
              </a:path>
              <a:path fill="darkenLess" w="130251" h="21600">
                <a:moveTo>
                  <a:pt x="130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851" y="20200"/>
                </a:lnTo>
                <a:close/>
              </a:path>
              <a:path fill="lighten" w="130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Zweiter Strahle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zweite Strahlensatz (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513540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A  :  SB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C  :  S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Parallelenabschnitte zueinander wie die zugehörigen Strahlenabschnitte auf ein und demselb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Zugehörig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534996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2"/>
          <p:cNvSpPr/>
          <p:nvPr/>
        </p:nvSpPr>
        <p:spPr>
          <a:xfrm flipV="1">
            <a:off x="5867280" y="3903480"/>
            <a:ext cx="914400" cy="58716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3"/>
          <p:cNvSpPr/>
          <p:nvPr/>
        </p:nvSpPr>
        <p:spPr>
          <a:xfrm flipV="1">
            <a:off x="6248520" y="4343400"/>
            <a:ext cx="1981080" cy="12715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87360" y="2793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B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  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 SB</a:t>
            </a: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8"/>
          <p:cNvSpPr/>
          <p:nvPr/>
        </p:nvSpPr>
        <p:spPr>
          <a:xfrm>
            <a:off x="30481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6858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0"/>
          <p:cNvSpPr/>
          <p:nvPr/>
        </p:nvSpPr>
        <p:spPr>
          <a:xfrm>
            <a:off x="22860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1"/>
          <p:cNvSpPr/>
          <p:nvPr/>
        </p:nvSpPr>
        <p:spPr>
          <a:xfrm>
            <a:off x="1447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2"/>
          <p:cNvSpPr/>
          <p:nvPr/>
        </p:nvSpPr>
        <p:spPr>
          <a:xfrm>
            <a:off x="685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3"/>
          <p:cNvSpPr/>
          <p:nvPr/>
        </p:nvSpPr>
        <p:spPr>
          <a:xfrm>
            <a:off x="1447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4"/>
          <p:cNvSpPr/>
          <p:nvPr/>
        </p:nvSpPr>
        <p:spPr>
          <a:xfrm>
            <a:off x="23623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5"/>
          <p:cNvSpPr/>
          <p:nvPr/>
        </p:nvSpPr>
        <p:spPr>
          <a:xfrm>
            <a:off x="30481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36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38"/>
          <p:cNvSpPr/>
          <p:nvPr/>
        </p:nvSpPr>
        <p:spPr>
          <a:xfrm>
            <a:off x="684360" y="6199200"/>
            <a:ext cx="1944720" cy="322200"/>
          </a:xfrm>
          <a:custGeom>
            <a:avLst/>
            <a:gdLst>
              <a:gd name="textAreaLeft" fmla="*/ 20880 w 1944720"/>
              <a:gd name="textAreaRight" fmla="*/ 1923840 w 1944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130251" h="21600">
                <a:moveTo>
                  <a:pt x="0" y="0"/>
                </a:moveTo>
                <a:lnTo>
                  <a:pt x="130251" y="0"/>
                </a:lnTo>
                <a:lnTo>
                  <a:pt x="130251" y="21600"/>
                </a:lnTo>
                <a:lnTo>
                  <a:pt x="0" y="21600"/>
                </a:lnTo>
                <a:close/>
              </a:path>
              <a:path fill="lightenLess" w="130251" h="21600">
                <a:moveTo>
                  <a:pt x="0" y="0"/>
                </a:moveTo>
                <a:lnTo>
                  <a:pt x="130251" y="0"/>
                </a:lnTo>
                <a:lnTo>
                  <a:pt x="128851" y="1400"/>
                </a:lnTo>
                <a:lnTo>
                  <a:pt x="1400" y="1400"/>
                </a:lnTo>
                <a:close/>
              </a:path>
              <a:path fill="darken" w="130251" h="21600">
                <a:moveTo>
                  <a:pt x="130251" y="0"/>
                </a:moveTo>
                <a:lnTo>
                  <a:pt x="130251" y="21600"/>
                </a:lnTo>
                <a:lnTo>
                  <a:pt x="128851" y="20200"/>
                </a:lnTo>
                <a:lnTo>
                  <a:pt x="128851" y="1400"/>
                </a:lnTo>
                <a:close/>
              </a:path>
              <a:path fill="darkenLess" w="130251" h="21600">
                <a:moveTo>
                  <a:pt x="130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851" y="20200"/>
                </a:lnTo>
                <a:close/>
              </a:path>
              <a:path fill="lighten" w="130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Erster Strahle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4:58:47Z</dcterms:created>
  <dc:creator>Friedrich-Gymnasium</dc:creator>
  <dc:description/>
  <dc:language>en-US</dc:language>
  <cp:lastModifiedBy>hs</cp:lastModifiedBy>
  <dcterms:modified xsi:type="dcterms:W3CDTF">2010-10-11T10:16:24Z</dcterms:modified>
  <cp:revision>93</cp:revision>
  <dc:subject/>
  <dc:title>Der 1. Strahlensatz</dc:title>
</cp:coreProperties>
</file>